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8C28-F361-4221-BF86-797E69452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9077-DE9B-457F-867B-5C8FD7000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ground to this CPG development is as follows: …. Worldwide, we know that the prevalence of CKD and ESRD is increasing.  In Malaysian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F2C6-6470-4011-9FAF-07D0EC64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F816-A206-4E05-B242-F5EDFB478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3D54-3872-4215-A807-62E26A45D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0E2D-C35B-4005-9E13-0B573AB7F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30D8-3EDE-4433-9E4A-024F7D68D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FEE3-E276-4282-B813-9D935E49D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2A2D-CADC-4CE4-904D-4A2D01565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B455-1EDD-409A-A275-05F651E9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050F-AE81-4AAF-92C2-F6D02E7B7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for using a range of target BP was twofold: 1. to encourage doctors to actually achieve target levels  rather than stop efforts to  optinise BP when approaching an absolute  target level 2. to set a lower limit/thershold for BP lowering in the light of evidence that there may be a level below which there was no clear benefit to patients and/or more negative outc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3A03-162A-402B-8631-F19CAF37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BE4D-C610-43DD-AD6B-73F0AE23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3B4-EC9C-4C74-85BE-8C27CF15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9B9-1B13-462B-B58C-BB9CC48B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C0540-8F00-4CDA-8260-66D33CD9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C1E52-3883-413C-B5CF-92E1E1F6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BA9B7-8278-4C99-B894-B59457ED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94110-A8DD-4959-B634-E569B5AB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39134-2BA4-4E65-906A-421D4A7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A6157-3BE4-428E-8B90-CA9F4DC1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E6550-4131-4EDD-8201-EEE632ED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A5442-4263-4166-AF71-211A617B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FD784-C0D3-4A98-AF26-742771F6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57CCF-0720-4D9E-9263-54F70CB2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835-4498-476D-91ED-939D75F1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E3DBE-BED6-4326-8C9A-8CA9D455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2DF9D-5952-46A2-AB6A-18FA60A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DAC00-0342-43EF-963B-EB60434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8B1D0-F749-4D6F-8C65-333F7844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DA425-9B68-4860-A924-35655227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2ACD3-E6B0-41BC-9CB1-40473A7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DCBD1-D80D-4EC6-941F-B863AB31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A6605-21C1-4B24-AC5C-FD429F6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9B546-D8F1-4DAE-9F73-547C86AD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37CD9-20B3-4EC7-9FC3-24DD27A5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D0C-C4ED-4421-8EF6-FFE66AA9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321AA-F925-4AD5-B324-AC48F36D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ADB58-ED71-4520-9995-84BEA49C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B49AE-A872-43A2-AD51-6079C292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34B6D-2A93-4ED6-907B-6B4973ED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ED222-9F2A-4882-87CE-EFE069E7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EF8C3-5E17-4525-AF53-99AF47F6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A3D18-DB38-4477-A3D8-96BE4340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B09C4-1C3B-40C6-8202-FB27415F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9FFD7-579D-4945-944E-B4B8498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F042D-3F3B-44AD-A969-D9A670C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6527-8284-41DF-BAB1-4F4E524E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EDE66-CBBC-4FF9-9C8C-808C8517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A382F-8B7C-45EC-9C0D-92F178A0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8FE66-5F02-45C9-B505-3523804C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CC72A-B05B-4E6C-A075-77D76A0F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D5D25-4EA0-4462-9677-46C5BA6B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928D5-3AF2-4A74-B93A-5C3EC096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0BE23-A826-44CA-906C-D2762CF4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FD84D-25E1-44E1-87BE-1EC37048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1C02F-AEBA-4235-8696-0715D41E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06DAC-D969-4375-B9C2-FE86D4F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2C13-0DAF-4423-B050-6662BA1E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525C1-2AED-4C80-AE90-22671C5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4726D-6C31-4214-B0C2-DB80EADE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9E110-1477-4751-B3B9-BE65312E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072AC-B504-4A16-9FE5-21862DC4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21ADE-9F72-421F-A5EF-65A9B474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39F6-C41E-4F21-A0B7-5E72BC3A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0B61-8FBA-4934-9F95-935437F6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91A4-9640-4667-A4B3-4D20E13F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9AAB-6B1D-4FE8-842C-D6ABDB74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5ED5-2C72-4BEC-8B22-F321A507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57B-8C15-44E8-ADCF-6878655B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4D66-EB4D-4D2A-9975-2BA49E0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EF28-3409-487E-9F81-CDF14CA2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FE5A-6D52-4C4F-8957-C7E52C11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6281-215F-4269-983E-D97A773B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DDC2-4246-4C6D-9074-106959F3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0023-CA2F-42F8-BA3C-292E9286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9685A-641C-43FF-8A15-93CD23E6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165B-19D0-4B22-B56C-E6F12B0E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DB888-FB4A-4F24-9009-DBB0DDF2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C207-2C8B-4ED4-8C50-B61F3299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DE7-EE6B-4125-9206-A5DFF4DC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BE5F-D5D4-4BAC-9199-BCE63A7D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0A28-A3DC-4804-B0DB-24A6520E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C132-F02E-45BF-801A-34311F37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3F3D-F5B4-4E43-812B-84F8685B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F0EA-254F-4C40-A17B-B93F3FB6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86877-4387-4F23-B591-C05DE947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3C94B-1FE2-4F7D-AD2C-2073F06A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E866-9157-4A6C-BE4A-1D0F50D8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F931-6BF5-4350-8285-38ED4249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09E0-A2FB-40B2-A957-F31859D9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D6D-F041-471E-AA01-62D0FCB2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3CC1-1C15-4E04-88FA-C51F257E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B0A7-D995-49B3-9817-10575393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0174-E389-45A4-BA99-0F6BA1E7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153C-5C01-469C-A88A-EEC635CD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446C-4271-46A7-BAA9-47D61A6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474F-6C9D-4792-BDB9-74CC7AAB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D674-CBCB-4275-8D7C-E8EF59B8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5689-7F0D-43EF-AFC9-C2C71863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FE6B-4A1D-4C41-9431-BBBC3C44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A60A6-56E7-47D4-A945-E0821E63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267-DA20-4519-A800-76A784A5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6F45-537A-4B90-9245-ABC69288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EB63-EFAF-4E6B-9AB4-7DB6D137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632AB-507C-4D0E-A9CC-DF029CE0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D88E4-21E8-41C3-B22C-B34F24F0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82DD-C61B-49DD-B93B-1044EB29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C66B9-851A-4664-B136-6743996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24969-FDA8-4704-8CDD-930350E3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5D79F-FD95-4564-BA38-C81BC4E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D8CD-6499-469A-9C01-792A62BC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DB4C-F5C5-49A9-877D-25B43E3F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AE9-B7FA-42D0-8FBD-DD8D52F0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2114-24D6-4EB3-8B31-746DF1DC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D410-B9F7-4F5D-8891-E2BE9721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4CFA1-A863-4AD1-8C58-56F516C3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A458-04BA-4E93-B10B-672EE3E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D0F56-A8E8-49C7-B487-0E42C573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602F7-75F2-48E7-9754-59FD486F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A596-913B-413D-950D-DBAC0F37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D993-EE20-4485-82FE-96922CAA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9C747-E9BE-4863-9C88-C052DB30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97884-B3BF-4CBB-98DE-468821E1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54F-6CF4-49E4-AD66-9A0F352A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B0A93-0EA0-4FE4-ADC5-60BC5558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3C550-9F08-4C9C-BBBF-5C5DAD38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ED295-0F3C-483C-BAB3-EDDC0AE2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6775A-7B9F-4E14-B8E7-5B19F912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37790-34F5-492B-A221-3D1D9492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FB211-E369-439E-8511-3C895E90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7D000-CB40-4FCC-B04D-7017318B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96615-3214-4FEE-BB58-8CE3802B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17148-8D40-40EE-AC0F-E3E2E4BB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B6263-CE44-4099-ADED-ED4EC223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3F2-123B-4480-A021-F3EE007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B3CB-8BBF-4CF3-AC28-974DC63B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E3D6E-2735-45F2-B0BF-FA891636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7A8F8-37AC-4FDF-8F5D-40DD193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15F57-E13E-4D19-BEDA-22C83E52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E509A-6A04-4D6F-9168-DEF814E7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4C924-1DCE-4610-8E44-A274A1D6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676C5-5C6C-42B0-8C70-C12EC4DB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6B4E0-225C-49AD-AF6D-DCD89B68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348BC-FE49-4D74-8883-8C9D5CF6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0B91C-32E7-494B-BAD5-BAA5676D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CE7-804F-49F8-91B5-9DB296EC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224C9-9A28-4F50-967F-4EF2690A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7AFFD-3478-456B-9736-23530F8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E9791-3C71-4025-9158-EBE93398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C6CF9-83E0-4A14-AA22-D83E301C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756E2-2A82-428F-84F6-37161703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DF4A3-1EFE-4C7F-A464-6FB48EAB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11CA-DB44-4D56-BC53-378501DD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E268F-631B-4A8E-97B9-59B35FEE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52AB5-FCF9-42AD-ACB8-74BDE70E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B6D59-CBAA-408A-A9E0-B73A61F7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4805B-3109-49F3-B76F-9D706DF5BB2E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D0FF4-3FD1-4FCE-9112-8503CB5F504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3671-8A5A-4DAA-B0F8-2D84FFB12800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2444-C682-47D0-8319-C8D164A48F56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C5AD-F075-49D9-B89C-5DEC9E8F35E0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581C-9F13-4E9E-8069-A5C16BE441B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9F0-F303-4B13-8EDB-F587AA0BCFD3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A8AF-7CDD-45F1-B327-ADC28DBA80E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D894-FBB0-4F45-BEB8-9BF7BC8EB453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D264-5B66-4ECD-93FF-99AC36EB4D4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F31D-5948-4AD7-9FEE-C26987CBF8FB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9804-C0B6-4CD9-A53D-7D2A52CE5A0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6BBB-1A18-49C6-81B2-9BF8BDFDCC5C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BCDE-22FA-47D9-85C0-C86FDA54B41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45F2-2DBA-4CBA-AAE0-60F0BC5A71B1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8BDE-66E2-4748-9CD3-4FDA5CA85583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494C-AE36-4578-AB9B-B28263DCBEF9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A48E-7D1D-46F1-992B-AE5D58DA54E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44BE-563C-4DB8-B0F3-FE4F976E1FFB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C380-B0C7-481C-80DC-AEA08A673A1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0211-44F5-4AD2-9692-EFE0E1256F2E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A254-49B4-4EE2-817F-0973DD58546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C3F3-0FC1-4FFF-BF40-E81FFBFCB6E2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A673-C021-4B42-9B13-28BABAD50F5D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osmokingsigns.com/images/signs/nosmokingstickerlarge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010280" cy="29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KEMEROSOTAN </a:t>
            </a:r>
            <a:br>
              <a:rPr sz="4800"/>
            </a:b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PENYAKIT CKD</a:t>
            </a:r>
            <a:br>
              <a:rPr sz="4800"/>
            </a:b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en-MY" sz="4800" spc="-1" strike="noStrike">
                <a:solidFill>
                  <a:srgbClr val="000000"/>
                </a:solidFill>
                <a:latin typeface="Calibri Light"/>
              </a:rPr>
              <a:t>Progression of CKD</a:t>
            </a: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33520" y="5105520"/>
            <a:ext cx="79992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MODUL LATIHAN PARAMEDIK UNTUK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44068"/>
                </a:solidFill>
                <a:latin typeface="Calibri Light"/>
              </a:rPr>
              <a:t>CLINICAL PRACTICE GUIDELINES (CPG)</a:t>
            </a:r>
            <a:br>
              <a:rPr sz="2000"/>
            </a:b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RAWATAN PENYAKIT GINJAL KRONIK (</a:t>
            </a:r>
            <a:r>
              <a:rPr b="1" i="1" lang="en-US" sz="2000" spc="-1" strike="noStrike">
                <a:solidFill>
                  <a:srgbClr val="344068"/>
                </a:solidFill>
                <a:latin typeface="Calibri Light"/>
              </a:rPr>
              <a:t>CKD</a:t>
            </a: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) DEWAS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A720-6ECA-4487-BAD5-BC69686A9E4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7400880" y="85680"/>
            <a:ext cx="1646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3"/>
          <p:cNvSpPr/>
          <p:nvPr/>
        </p:nvSpPr>
        <p:spPr>
          <a:xfrm>
            <a:off x="5423400" y="838080"/>
            <a:ext cx="2907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Ei/ARB ini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3333600" y="1995480"/>
            <a:ext cx="272268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  Cr and K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thin 7-14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349560" y="3075120"/>
            <a:ext cx="25506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Cr rise &lt;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BP not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No high K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5867280" y="3048120"/>
            <a:ext cx="3124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Cr </a:t>
            </a:r>
            <a:r>
              <a:rPr b="1" i="1" lang="en-US" sz="2400" spc="-1" strike="noStrike">
                <a:solidFill>
                  <a:srgbClr val="2683c6"/>
                </a:solidFill>
                <a:latin typeface="Wingdings"/>
                <a:ea typeface="Wingdings"/>
              </a:rPr>
              <a:t></a:t>
            </a: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 &gt;30% in 2/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6705720" y="4089240"/>
            <a:ext cx="2016000" cy="459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p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6680160" y="4994280"/>
            <a:ext cx="207828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s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lateral 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2080" y="5019840"/>
            <a:ext cx="170316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CEi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 flipH="1">
            <a:off x="5186520" y="1353960"/>
            <a:ext cx="863280" cy="576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1"/>
          <p:cNvSpPr/>
          <p:nvPr/>
        </p:nvSpPr>
        <p:spPr>
          <a:xfrm>
            <a:off x="1582560" y="4307040"/>
            <a:ext cx="0" cy="64764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1655640" y="2481120"/>
            <a:ext cx="0" cy="50508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7696080" y="459432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4"/>
          <p:cNvSpPr/>
          <p:nvPr/>
        </p:nvSpPr>
        <p:spPr>
          <a:xfrm>
            <a:off x="7620120" y="3530520"/>
            <a:ext cx="0" cy="5079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5"/>
          <p:cNvSpPr/>
          <p:nvPr/>
        </p:nvSpPr>
        <p:spPr>
          <a:xfrm>
            <a:off x="1657440" y="2506680"/>
            <a:ext cx="1655640" cy="0"/>
          </a:xfrm>
          <a:prstGeom prst="line">
            <a:avLst/>
          </a:prstGeom>
          <a:ln w="7632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6"/>
          <p:cNvSpPr/>
          <p:nvPr/>
        </p:nvSpPr>
        <p:spPr>
          <a:xfrm>
            <a:off x="6108840" y="2529000"/>
            <a:ext cx="1511280" cy="0"/>
          </a:xfrm>
          <a:prstGeom prst="line">
            <a:avLst/>
          </a:prstGeom>
          <a:ln w="7632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3733920" y="3219480"/>
            <a:ext cx="16761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High K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463200" y="4156200"/>
            <a:ext cx="7920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414680" y="4156200"/>
            <a:ext cx="15289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83c6"/>
                </a:solidFill>
                <a:latin typeface="Arial"/>
              </a:rPr>
              <a:t>Sev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0"/>
          <p:cNvSpPr/>
          <p:nvPr/>
        </p:nvSpPr>
        <p:spPr>
          <a:xfrm>
            <a:off x="4537080" y="286560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1"/>
          <p:cNvSpPr/>
          <p:nvPr/>
        </p:nvSpPr>
        <p:spPr>
          <a:xfrm>
            <a:off x="3960720" y="373068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2"/>
          <p:cNvSpPr/>
          <p:nvPr/>
        </p:nvSpPr>
        <p:spPr>
          <a:xfrm>
            <a:off x="5041800" y="373068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3"/>
          <p:cNvSpPr/>
          <p:nvPr/>
        </p:nvSpPr>
        <p:spPr>
          <a:xfrm>
            <a:off x="6019920" y="4378320"/>
            <a:ext cx="57600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4"/>
          <p:cNvSpPr/>
          <p:nvPr/>
        </p:nvSpPr>
        <p:spPr>
          <a:xfrm>
            <a:off x="2836800" y="5019840"/>
            <a:ext cx="3483360" cy="82548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duce K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et/other manoue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5"/>
          <p:cNvSpPr/>
          <p:nvPr/>
        </p:nvSpPr>
        <p:spPr>
          <a:xfrm>
            <a:off x="3960720" y="4665600"/>
            <a:ext cx="0" cy="36036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6"/>
          <p:cNvSpPr/>
          <p:nvPr/>
        </p:nvSpPr>
        <p:spPr>
          <a:xfrm>
            <a:off x="533520" y="174600"/>
            <a:ext cx="784836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mantauan semasa memulaka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CEi/A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7"/>
          <p:cNvSpPr/>
          <p:nvPr/>
        </p:nvSpPr>
        <p:spPr>
          <a:xfrm>
            <a:off x="7620120" y="2490840"/>
            <a:ext cx="0" cy="5047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C9B4-932D-4C7E-ABDA-75643B1D02C0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walan pengambilan protei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447560"/>
            <a:ext cx="8153280" cy="419076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 fontScale="94000"/>
          </a:bodyPr>
          <a:p>
            <a:pPr marL="319320" indent="-208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leh dipertimbangkan untuk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K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4 dan 5 - sebelum dialisis dimulakan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lu mempertimbangkan kebaikan memperlahankan kemerosotan penyakit ginjal dengan risiko malnutrisi (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rotein-energy malnutri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319320" indent="-208800">
              <a:lnSpc>
                <a:spcPct val="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B34E-0677-4711-B677-117C28F37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walan hyperlipidaemia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447920"/>
            <a:ext cx="8153280" cy="40384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unseling untuk modifikasi gaya hidup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makana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ama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4600" indent="-1778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n perlu dipertimbangkan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AD53-D35D-477F-AC38-FF5545235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457200" y="1371600"/>
            <a:ext cx="8153280" cy="49528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okok boleh merosakkan ginjal sepertimana ia menyebabkan penyakit kardiovaskular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7219-C320-4A49-A7AD-B0398AC69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nosmokingsticker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73640" y="2895480"/>
            <a:ext cx="3187800" cy="33102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Berhenti merokok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838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alibri"/>
              </a:rPr>
              <a:t>Elak penggunaan agen nefro-toksik  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371240"/>
            <a:ext cx="8153280" cy="487692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Nasihat untuk mengelakkan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NSA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termasuk Cox-2 inhibitors d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PI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bat tradisional and herb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5497-0056-4EC0-8DEE-EA1CF45BF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5" descr="PasajePaquito02-wm"/>
          <p:cNvPicPr/>
          <p:nvPr/>
        </p:nvPicPr>
        <p:blipFill>
          <a:blip r:embed="rId1"/>
          <a:stretch/>
        </p:blipFill>
        <p:spPr>
          <a:xfrm>
            <a:off x="4102200" y="2908440"/>
            <a:ext cx="434664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523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ila rujukan kepada pegawai perubatan diperlukan?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AAB8-370A-453B-892F-9CDEA696C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5" descr=""/>
          <p:cNvPicPr/>
          <p:nvPr/>
        </p:nvPicPr>
        <p:blipFill>
          <a:blip r:embed="rId1"/>
          <a:stretch/>
        </p:blipFill>
        <p:spPr>
          <a:xfrm>
            <a:off x="2765520" y="2552760"/>
            <a:ext cx="3657600" cy="260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dikasi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ersistent proteinuria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si ginjal yang abnorm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GFR/serum creatin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kanan darah yang tidak terkaw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 diabetes yang tidak terkaw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 lipid yang tidak terkaw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ita deng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K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ang merancang untuk hamil (Kaunseling prakehamilan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1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ika ada keraguan…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476D-33CF-4F59-BEBB-077963F4A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tle 1"/>
          <p:cNvSpPr/>
          <p:nvPr/>
        </p:nvSpPr>
        <p:spPr>
          <a:xfrm>
            <a:off x="457200" y="380880"/>
            <a:ext cx="8229600" cy="792360"/>
          </a:xfrm>
          <a:prstGeom prst="rect">
            <a:avLst/>
          </a:prstGeom>
          <a:solidFill>
            <a:srgbClr val="344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MS PGothic"/>
              </a:rPr>
              <a:t>Rujukan kepada pakar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-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ontent Placeholder 2"/>
          <p:cNvSpPr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jukan kepada pakar nefrologi atau pakar perubatan perlu dipertimbangkan jika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eGF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&lt;30 ml/min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ungsi ginjal merosot dengan mendad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teinuria ≥1 g/hari atau protein: creatinine ratio dalam kencing (uPCR) ≥0.1 g/mmol untuk pesakit yang tiada diabe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87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roteinuria dan haematu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B9F9-60C0-4EFE-91BB-DC55DE8EF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4946400" y="647712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itle 1"/>
          <p:cNvSpPr/>
          <p:nvPr/>
        </p:nvSpPr>
        <p:spPr>
          <a:xfrm>
            <a:off x="457200" y="351000"/>
            <a:ext cx="8229600" cy="792000"/>
          </a:xfrm>
          <a:prstGeom prst="rect">
            <a:avLst/>
          </a:prstGeom>
          <a:solidFill>
            <a:srgbClr val="344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MS PGothic"/>
              </a:rPr>
              <a:t>Rujukan kepada pakar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MS PGothic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ontent Placeholder 2"/>
          <p:cNvSpPr/>
          <p:nvPr/>
        </p:nvSpPr>
        <p:spPr>
          <a:xfrm>
            <a:off x="457200" y="1370160"/>
            <a:ext cx="8229600" cy="4800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uasi 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ekanan darah yang tidak terkawal dengan tiga jenis ubat termasuk diureti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Wanita yang hamil atau merancang untuk ha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unc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K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yang tidak diketah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5C7A-7810-4587-96F4-B7BC5A499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4727160" y="647388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5FCC-B81E-4296-B691-6496D95C7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378000" y="66600"/>
            <a:ext cx="841212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21880" y="533160"/>
            <a:ext cx="7543800" cy="31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GKA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14040" y="4495320"/>
            <a:ext cx="74516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PA YANG PERLU DIPANTAU DALAM </a:t>
            </a:r>
            <a:r>
              <a:rPr b="1" i="1" lang="en-US" sz="2800" spc="-1" strike="noStrike">
                <a:solidFill>
                  <a:srgbClr val="000000"/>
                </a:solidFill>
                <a:latin typeface="Calibri Light"/>
              </a:rPr>
              <a:t>CKD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BAGAIMANA UNTUK MEMANTAU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4ECA-0912-4CFB-88AD-966783CED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457200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TERIMA </a:t>
            </a: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KASIH</a:t>
            </a: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7AE3-ACB9-4328-8959-5AC5096EE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6019920" y="762120"/>
            <a:ext cx="2313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pa yang perlu dipantau dalam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KD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294920"/>
            <a:ext cx="8153280" cy="48006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kanan darah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s proteinur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hap diabetes (FBS dan HbA1c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gsi ginjal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rum creatinin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GF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rat badan d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MI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siko penyakit jantung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pid profile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574560" indent="-234720">
              <a:lnSpc>
                <a:spcPct val="9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in-lain: ECG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96CB-0EC0-4039-B9FC-5850BBF61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2F38-29F8-4999-8846-22B8D09B9E27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92200" y="882720"/>
          <a:ext cx="8094600" cy="5137200"/>
        </p:xfrm>
        <a:graphic>
          <a:graphicData uri="http://schemas.openxmlformats.org/drawingml/2006/table">
            <a:tbl>
              <a:tblPr/>
              <a:tblGrid>
                <a:gridCol w="263520"/>
                <a:gridCol w="1886040"/>
                <a:gridCol w="895320"/>
                <a:gridCol w="1009440"/>
                <a:gridCol w="1009800"/>
                <a:gridCol w="1011240"/>
                <a:gridCol w="1009440"/>
                <a:gridCol w="1009800"/>
              </a:tblGrid>
              <a:tr h="171360">
                <a:tc grid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H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 grid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IK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jian Dar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al Pro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ea (m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atinine (µ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F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r>
                        <a:rPr b="0" lang="en-GB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m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walan Kencing Man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BS (4.4 - 6.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A1c (&lt;6.5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les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blood cholesterol (&lt;4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DL (mmol/L) (&lt;2.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DL (mmol/L) (&gt;1.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G (mmol/L) (&lt;1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emoglobin (g/d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ium (mmol/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organic phosphorus (mmol/L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jian Air Kenc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F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antifika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bumin creatinine ratio (mg/mmo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bumin creatinine ratio (mg/mmo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marL="343080" indent="-343080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H urine pro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TextBox 2"/>
          <p:cNvSpPr/>
          <p:nvPr/>
        </p:nvSpPr>
        <p:spPr>
          <a:xfrm>
            <a:off x="1676520" y="3207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"/>
              </a:rPr>
              <a:t>CARTA KAJ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Kemerosot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KD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542D-B9D6-42BC-AEB8-BE6C35B15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28600" y="762120"/>
          <a:ext cx="8763120" cy="6067440"/>
        </p:xfrm>
        <a:graphic>
          <a:graphicData uri="http://schemas.openxmlformats.org/drawingml/2006/table">
            <a:tbl>
              <a:tblPr/>
              <a:tblGrid>
                <a:gridCol w="3352680"/>
                <a:gridCol w="2705400"/>
                <a:gridCol w="2705040"/>
              </a:tblGrid>
              <a:tr h="1920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44068"/>
                          </a:solidFill>
                          <a:latin typeface="Arial"/>
                          <a:ea typeface="Arial"/>
                        </a:rPr>
                        <a:t>Faktor risiko </a:t>
                      </a:r>
                      <a:r>
                        <a:rPr b="1" i="1" lang="en-US" sz="2400" spc="-1" strike="noStrike">
                          <a:solidFill>
                            <a:srgbClr val="344068"/>
                          </a:solidFill>
                          <a:latin typeface="Arial"/>
                          <a:ea typeface="Arial"/>
                        </a:rPr>
                        <a:t>CK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ktor mempengaruhi kemerosotan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KD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solidFill>
                      <a:srgbClr val="b26b0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omplik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solidFill>
                      <a:srgbClr val="b26b02"/>
                    </a:solidFill>
                  </a:tcPr>
                </a:tc>
              </a:tr>
              <a:tr h="4146840">
                <a:tc>
                  <a:txBody>
                    <a:bodyPr lIns="90000" rIns="90000" tIns="91440" anchor="t">
                      <a:noAutofit/>
                    </a:bodyPr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perten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ur &gt;65 tah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jarah keluarga penyaki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K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in-lain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5568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esiti dan sindrom metabol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5568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ggunaan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AIDs/PP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ang berpanjang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t">
                      <a:noAutofit/>
                    </a:bodyPr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s proteinuria  yang lebih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kanan darah yang lebih ting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awalan diabetes yang tidak memuas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ok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perlipida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at nefro-toks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noFill/>
                  </a:tcPr>
                </a:tc>
                <a:tc>
                  <a:txBody>
                    <a:bodyPr lIns="90000" rIns="90000" tIns="91440" anchor="t">
                      <a:noAutofit/>
                    </a:bodyPr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yakit kardiovask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a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7280" indent="-2872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al bone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83c6"/>
                      </a:solidFill>
                    </a:lnL>
                    <a:lnR w="5760">
                      <a:solidFill>
                        <a:srgbClr val="2683c6"/>
                      </a:solidFill>
                    </a:lnR>
                    <a:lnT w="5760">
                      <a:solidFill>
                        <a:srgbClr val="2683c6"/>
                      </a:solidFill>
                    </a:lnT>
                    <a:lnB w="5760">
                      <a:solidFill>
                        <a:srgbClr val="2683c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7" name="Text Box 19"/>
          <p:cNvSpPr/>
          <p:nvPr/>
        </p:nvSpPr>
        <p:spPr>
          <a:xfrm>
            <a:off x="2971800" y="6479280"/>
            <a:ext cx="594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Levey et al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nn Intern Me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. 2003;139:137-147. USRDS. 1999sAnnual Data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8"/>
          <p:cNvSpPr/>
          <p:nvPr/>
        </p:nvSpPr>
        <p:spPr>
          <a:xfrm>
            <a:off x="3505320" y="1219320"/>
            <a:ext cx="2814480" cy="5268960"/>
          </a:xfrm>
          <a:prstGeom prst="ellipse">
            <a:avLst/>
          </a:prstGeom>
          <a:noFill/>
          <a:ln w="12600">
            <a:solidFill>
              <a:srgbClr val="4f81bd"/>
            </a:solidFill>
            <a:miter/>
          </a:ln>
          <a:effectLst>
            <a:outerShdw dist="25455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edah memperlahankan kemerosot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KD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walan hipertensi yang optima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walan diabetes yang optim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gurangan proteinuri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bat untuk mengurangkan proteinuria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723960" indent="-190440">
              <a:lnSpc>
                <a:spcPct val="10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E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ptopril, Enalapril, Perindopril….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2" marL="723960" indent="-190440">
              <a:lnSpc>
                <a:spcPct val="10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RB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Losartan, Irbesatan, Telmisartan ….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rhenti merokok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gawalan protin dalam makana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k penggunaan agen nefro-toksik: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bat tahan sakit seperti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SAIDs/COX2 inhibito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b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P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eperti Omeprazole, Pantoprazol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533520" indent="-17784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bat tradisional dan herb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956-ECF5-4332-85C9-581F34199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le 1"/>
          <p:cNvSpPr/>
          <p:nvPr/>
        </p:nvSpPr>
        <p:spPr>
          <a:xfrm>
            <a:off x="407880" y="426960"/>
            <a:ext cx="8229600" cy="79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saran tekanan dar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3022560" y="62118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"/>
          <p:cNvSpPr/>
          <p:nvPr/>
        </p:nvSpPr>
        <p:spPr>
          <a:xfrm>
            <a:off x="4377960" y="642780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8"/>
          <p:cNvGrpSpPr/>
          <p:nvPr/>
        </p:nvGrpSpPr>
        <p:grpSpPr>
          <a:xfrm>
            <a:off x="444600" y="1143000"/>
            <a:ext cx="8318160" cy="5284440"/>
            <a:chOff x="444600" y="1143000"/>
            <a:chExt cx="8318160" cy="5284440"/>
          </a:xfrm>
        </p:grpSpPr>
        <p:sp>
          <p:nvSpPr>
            <p:cNvPr id="556" name="AutoShape 7"/>
            <p:cNvSpPr/>
            <p:nvPr/>
          </p:nvSpPr>
          <p:spPr>
            <a:xfrm>
              <a:off x="444600" y="1143000"/>
              <a:ext cx="8308440" cy="52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7" name="Picture 9" descr=""/>
            <p:cNvPicPr/>
            <p:nvPr/>
          </p:nvPicPr>
          <p:blipFill>
            <a:blip r:embed="rId1"/>
            <a:srcRect l="0" t="17411" r="0" b="21485"/>
            <a:stretch/>
          </p:blipFill>
          <p:spPr>
            <a:xfrm>
              <a:off x="444600" y="2064600"/>
              <a:ext cx="8318160" cy="323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80ED-9D29-4209-9292-92B0CD4B030A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Content Placeholder 2"/>
          <p:cNvSpPr/>
          <p:nvPr/>
        </p:nvSpPr>
        <p:spPr>
          <a:xfrm>
            <a:off x="457200" y="1523880"/>
            <a:ext cx="8229600" cy="441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HbA1c ≤7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Sasaran diubahsuai mengikut statu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-morb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B886-7B13-4252-B08A-721D32CBAF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4574880" y="6475320"/>
            <a:ext cx="40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aysian CPG on Management of CKD in Adults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tle 5"/>
          <p:cNvSpPr/>
          <p:nvPr/>
        </p:nvSpPr>
        <p:spPr>
          <a:xfrm>
            <a:off x="457200" y="409680"/>
            <a:ext cx="8229600" cy="73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SimSun"/>
              </a:rPr>
              <a:t>Sasaran diabe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tle 1"/>
          <p:cNvSpPr/>
          <p:nvPr/>
        </p:nvSpPr>
        <p:spPr>
          <a:xfrm>
            <a:off x="457200" y="426960"/>
            <a:ext cx="8229600" cy="868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Pengguna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ACEi/AR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ontent Placeholder 2"/>
          <p:cNvSpPr/>
          <p:nvPr/>
        </p:nvSpPr>
        <p:spPr>
          <a:xfrm>
            <a:off x="457200" y="1600200"/>
            <a:ext cx="8229600" cy="4419720"/>
          </a:xfrm>
          <a:prstGeom prst="rect">
            <a:avLst/>
          </a:prstGeom>
          <a:solidFill>
            <a:srgbClr val="e0e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jian telah menunjukkan bahawa kawalan tekanan darah yang optima boleh memperlahankan kemerosotan fungsi ginj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E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AR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i faedah yang berlebihan kepada pesakit dengan proteinu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gsi ginjal perlu diperik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sebelum dan 1 - 2 minggu selepas memulak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CEi/A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667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pabila mengubah do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CEi/A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6487-03FB-4D6F-ACC8-B7F4652A64B5}" type="slidenum">
              <a:rPr b="0" lang="ms-MY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25:52Z</dcterms:created>
  <dc:creator>Dr. Ong Loke Meng</dc:creator>
  <dc:description/>
  <dc:language>en-US</dc:language>
  <cp:lastModifiedBy>Dr. Mohd. Aminuddin</cp:lastModifiedBy>
  <dcterms:modified xsi:type="dcterms:W3CDTF">2019-05-16T03:30:09Z</dcterms:modified>
  <cp:revision>238</cp:revision>
  <dc:subject/>
  <dc:title>MANAGEMENT OF  CHRONIC KIDNEY DISEASE IN ADULTS</dc:title>
</cp:coreProperties>
</file>